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706-97BD-4E3C-85D1-A543888A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349-E924-4D36-ABE2-DE3077E2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8DC-67E8-412B-8AD9-5E301A10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669-8E8E-4651-BACE-0890397B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12A4-07FE-4D7E-8FC8-E325FE82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9562-0E28-462E-9868-DB2CC538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22C3-0B2E-4750-AD6C-ED03215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32E5-951D-406A-902D-8958288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BD06-BD50-42BC-A520-D3809FC1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FE02-EB25-4381-B7AE-ACD7FA5F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2AE9-5E12-449C-8563-F5F66399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627-5A20-451C-B81F-7B29CF8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73C2-4398-4207-B42C-4A08410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A9B3-B110-4DE7-AACD-F9F13B5F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F1C-DB49-4582-9B21-B87E4F69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2935-BBE1-4BFA-BDE1-0D9FD9F0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FB0-D3C6-42FA-B88A-79AE88B3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C4DC-CB4C-4A09-80A7-A41618A3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2667-98AB-4F5A-8F4E-8C203077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4F3F-9544-4762-B14F-EBF5493D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9D78-810C-4AFC-836A-9297441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D33B-2CBF-4341-9A77-E4D3A1C2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9DF-6772-44D0-BE1E-BAB95378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6449-73EF-4863-BD9E-4B93E866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C7F6-7ADA-4447-9F33-FF85BCC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1080-4874-47AA-A526-4E40685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E5D2-C282-4CE9-A4E0-E9266F9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AB42-84A4-4A3A-A0D4-254695DE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A3EC-79B0-48CE-B2FE-F0C9911E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2636-B1EE-40BB-A079-C773A566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46183-D1B8-4A60-AD83-208ACA47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9EEC-0F31-429B-80A6-C8E7FE75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82AA-AC9F-4F71-82F2-5AB4BC66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36A-BB00-4038-8446-86970564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1B86-463F-4835-B40D-11EA142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2AF6-C324-434E-9F5B-3E0733AD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9254-46C7-413A-8E80-C5116AF3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1CBE-B5B8-475D-AA06-DE75C69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6D8D-5EB6-4CB7-8176-B8884EA5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46BA-9142-4D9D-BD8E-D5C5E6D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38D8-12C9-45A6-9A52-7CF94351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0036F-AFE6-47C4-9C13-74023EB0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7788-32AF-48CF-83FF-047B0D55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9FDF-7D03-45BB-BCC8-7C4C9589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625-CA92-4F26-A354-7733304D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2050-7FE4-4110-AA68-38A1EEB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327C-0A27-47D2-BE94-65879A4D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6C7E-B57A-4C85-8C02-5B517135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544F-7047-47BA-90EA-8C014554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2AD5-CFAD-4760-B771-1972D64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8C74-451E-4340-8F98-AF3FD1B9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F736-3F8C-4CBA-AABD-9210ED9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21473-CAA8-4AD8-9D8E-06194AE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7F9D5-8938-4F95-B496-DE6541C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14DD-DA57-44E8-BF75-54B624E1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474-5170-4B2D-8DCD-0F91E4D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A533-EDDA-4650-BD0F-7D9D655F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092-DA8A-4346-9F43-E6ACE916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4D0-F759-4B6F-BD13-9D0ECBB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1F3-33EE-4425-BD49-5BB9A2D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6077-DB8F-4E64-B22F-913C65E3531B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1085-E91A-4D6C-82A6-9776ADC247DD}" type="slidenum">
              <a:rPr b="0" lang="es-E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E4B-6E84-46C7-929F-DB31B325CC72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3AB5-DDB8-44FD-A316-2D1F259868B3}" type="slidenum">
              <a:rPr b="0" lang="es-E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1DB-4503-4B14-81D9-F850BB0C0615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4 Título" descr=""/>
          <p:cNvPicPr/>
          <p:nvPr/>
        </p:nvPicPr>
        <p:blipFill>
          <a:blip r:embed="rId1"/>
          <a:stretch/>
        </p:blipFill>
        <p:spPr>
          <a:xfrm>
            <a:off x="596880" y="682560"/>
            <a:ext cx="8163000" cy="5784840"/>
          </a:xfrm>
          <a:prstGeom prst="rect">
            <a:avLst/>
          </a:prstGeom>
          <a:ln w="0">
            <a:noFill/>
          </a:ln>
        </p:spPr>
      </p:pic>
      <p:pic>
        <p:nvPicPr>
          <p:cNvPr id="221" name="03 Les gens sont fous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3 Imagen" descr="Imagen003.jpg"/>
          <p:cNvPicPr/>
          <p:nvPr/>
        </p:nvPicPr>
        <p:blipFill>
          <a:blip r:embed="rId2"/>
          <a:stretch/>
        </p:blipFill>
        <p:spPr>
          <a:xfrm>
            <a:off x="1979640" y="1844640"/>
            <a:ext cx="58690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Imagen" descr="Imagen004.jpg"/>
          <p:cNvPicPr/>
          <p:nvPr/>
        </p:nvPicPr>
        <p:blipFill>
          <a:blip r:embed="rId1"/>
          <a:stretch/>
        </p:blipFill>
        <p:spPr>
          <a:xfrm>
            <a:off x="3924360" y="1220760"/>
            <a:ext cx="4227480" cy="563724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395280" y="836640"/>
            <a:ext cx="309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rebuchet MS"/>
              </a:rPr>
              <a:t>Les derniers mètres avant arriver au Calv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Imagen" descr="Imagen005.jpg"/>
          <p:cNvPicPr/>
          <p:nvPr/>
        </p:nvPicPr>
        <p:blipFill>
          <a:blip r:embed="rId1"/>
          <a:stretch/>
        </p:blipFill>
        <p:spPr>
          <a:xfrm>
            <a:off x="2556000" y="227664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227" name="2 CuadroTexto"/>
          <p:cNvSpPr/>
          <p:nvPr/>
        </p:nvSpPr>
        <p:spPr>
          <a:xfrm>
            <a:off x="611280" y="404640"/>
            <a:ext cx="7273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rebuchet MS"/>
              </a:rPr>
              <a:t>On arrive à “El Rabal”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C’est  la rue “Benito Toboso” et les tambourineurs restent , et restent, et restent, arrêtés dans El Rabal avec leurs tam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 Imagen" descr="Imagen006.jpg"/>
          <p:cNvPicPr/>
          <p:nvPr/>
        </p:nvPicPr>
        <p:blipFill>
          <a:blip r:embed="rId1"/>
          <a:stretch/>
        </p:blipFill>
        <p:spPr>
          <a:xfrm>
            <a:off x="395280" y="189000"/>
            <a:ext cx="3868920" cy="5156280"/>
          </a:xfrm>
          <a:prstGeom prst="rect">
            <a:avLst/>
          </a:prstGeom>
          <a:ln w="0">
            <a:noFill/>
          </a:ln>
        </p:spPr>
      </p:pic>
      <p:sp>
        <p:nvSpPr>
          <p:cNvPr id="229" name="3 CuadroTexto"/>
          <p:cNvSpPr/>
          <p:nvPr/>
        </p:nvSpPr>
        <p:spPr>
          <a:xfrm>
            <a:off x="4572000" y="26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La procession est arrêtée vers une demi-heure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1 Imagen" descr="Imagen007.jpg"/>
          <p:cNvPicPr/>
          <p:nvPr/>
        </p:nvPicPr>
        <p:blipFill>
          <a:blip r:embed="rId1"/>
          <a:stretch/>
        </p:blipFill>
        <p:spPr>
          <a:xfrm>
            <a:off x="2843280" y="1268280"/>
            <a:ext cx="3976560" cy="5302440"/>
          </a:xfrm>
          <a:prstGeom prst="rect">
            <a:avLst/>
          </a:prstGeom>
          <a:ln w="0">
            <a:noFill/>
          </a:ln>
        </p:spPr>
      </p:pic>
      <p:sp>
        <p:nvSpPr>
          <p:cNvPr id="231" name="3 CuadroTexto"/>
          <p:cNvSpPr/>
          <p:nvPr/>
        </p:nvSpPr>
        <p:spPr>
          <a:xfrm>
            <a:off x="611280" y="54936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Les Nazaréens sont désespéré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très fatigué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Imagen" descr="Imagen008.jpg"/>
          <p:cNvPicPr/>
          <p:nvPr/>
        </p:nvPicPr>
        <p:blipFill>
          <a:blip r:embed="rId1"/>
          <a:stretch/>
        </p:blipFill>
        <p:spPr>
          <a:xfrm>
            <a:off x="395280" y="18900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233" name="2 CuadroTexto"/>
          <p:cNvSpPr/>
          <p:nvPr/>
        </p:nvSpPr>
        <p:spPr>
          <a:xfrm>
            <a:off x="395280" y="51577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À la fin, comme toutes les années , la procession finit et  La Samaritaine peut aller à sa maison pour se reposer à l’année procha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4:24Z</dcterms:created>
  <dc:creator> </dc:creator>
  <dc:description/>
  <dc:language>en-US</dc:language>
  <cp:lastModifiedBy> </cp:lastModifiedBy>
  <dcterms:modified xsi:type="dcterms:W3CDTF">2012-04-15T20:31:15Z</dcterms:modified>
  <cp:revision>16</cp:revision>
  <dc:subject/>
  <dc:title>LA SAMARITAINE PROCESSIONES DE L’ASCENSION VERS SCENTION  MAVENDREDI </dc:title>
</cp:coreProperties>
</file>